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D96-F0F3-42B6-86BE-9BCDAD2B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94A-D3E8-4EFC-AD95-85D36C8C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8EF-8F97-4BB6-B3B5-D37EBC45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80D-A0DB-42BF-B9F6-9FE0B169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17E6-F2E9-48C7-93E9-CBF7593A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CDC5-A83F-4E61-A983-5234C1C0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A612-FFB2-4C1A-9CE8-252F31AB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BC3E-89D3-48A2-BA51-22DF5440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AD1C-0E30-46B3-8EF5-30319F2C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A4CF-2D08-4365-9A8B-16A5FE46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E765-E008-44BC-802D-B58B30DD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5AF-C1C2-4EE9-9646-9115F118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3737-819C-40C8-A621-4F6B243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BC49-E7EA-4C19-B2F3-01965D3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1280-4D5C-4652-A39B-B9E13933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7CC4-AA85-47CE-80B4-AB517DD1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5EDD-8C68-4DEE-9D51-219AABCC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5C45-E959-4A82-98A0-37AA8766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4FC9-AB15-4E99-9594-A144BF16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6A6F-002C-42F8-B943-F0194D40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E7BCD-68D9-4FC3-902F-18FEBFD9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97A3-6358-4BEF-B7D9-AFAEBF35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4C1-6FBC-411C-ACD3-43175862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B166-1EBC-4FBF-B9C0-032E6C79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9C52-2723-44FA-9832-F6CC8FC7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CB18-E364-4BC9-B59C-F0CB2C6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6316-83E7-4439-BBCE-006F4C4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20E2-1F3F-46CB-8577-42F70DA5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828B-7F21-4C84-815F-D912692D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D854D-9CE5-40A4-AD55-3D38F80A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9AE77-9681-4CBF-B117-0F786272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22F72-1044-46DD-B20E-268E571D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A1BE-B921-407E-B740-8BB03A15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39C-2977-43B3-A60A-D43DB14F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1598D-6F82-40FF-893E-2F308113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456A-AF86-46D3-A306-BA10E1BA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064F-967A-4E4F-8C94-97BEB71E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0CB9D-0776-4AE2-973C-29617D2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6F8B2-8BE5-4D49-B68F-580E3736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229D-195A-4018-93A7-32F9887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5ED5F-5D78-4EBE-9056-DAC6475E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EB95-AB98-4AD3-B673-94E46FEF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8A31-C5A1-4340-BC03-22EA70D8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18E3B-034A-43C9-8E30-D0A9AAFC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FA6-D3C1-456F-B529-18877277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594C7-F3EB-4AB1-B0AB-2449B7B1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9BD52-AFE7-4D1D-ABEC-FFCB921D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01E90-7ADF-467D-8C0C-800EF424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51D9C-2B0A-4370-B0CF-62CF5826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ECAA-D99F-4D4F-945B-6B481FBF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34DDC-F5FE-471B-8024-3D1DABA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6321-1982-4B80-BF59-5EA0C83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89128-D2C3-4F46-B160-CBF2C159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15F49-B5C8-489A-8A14-5E4EEC14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801D-5850-445E-A6BA-4C7A6F41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5AD-8A97-4754-B429-231A529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EFDC-4288-4759-B39A-8E64E4F4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39415-ADD2-4135-B509-3F30636E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49ED6-8EB5-4291-A9FC-3E2174D0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C092-BA60-4744-BC39-1C467E00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B11A-FB51-4C06-8816-B6694A14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5B5C9-6DC3-4DAB-8C0C-7245F120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EBEF2-6403-42AA-8239-269E8BF1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69DB0-29DF-4D1B-88B2-CDC82FF0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03B70-D2A9-4CC8-BB13-4A0FD4CE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D9510-142B-43D9-B207-C6601818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F3D-4F97-4594-9ABC-782135EF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B6E6A-C81F-44C8-867E-74F6B5F4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5E73-8FB9-4BBC-90C1-D34D181E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91D04-A345-4CB1-95BE-AAC97D80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3D0BA-3DED-4BC2-BDBA-9FFD2B74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BDC08-1D3B-4587-9192-53D67EDB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AD051-3DFF-4A58-AC07-068DF032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92891-786F-400F-8CF1-48063FEC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57F7-E8A3-4D43-8E98-1B714BF0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5D4AB-0010-42E9-AD6F-22475462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4007-DC7F-4630-96A8-8F7086B8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2F8-F285-4D22-9D86-495E37E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CCFEC-228A-4777-8237-8B31625E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FDB1C-0772-472C-9A4D-D8364B30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3AE6-EC3C-4E6A-AA21-9F2E7BE9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B9E2-1920-4F15-A3D2-ACE071E3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3ADC3-5C4C-46F3-8DDC-E7F63D25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9D6-C465-4BA4-BBA9-A75D8A5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D68-4AB2-40F1-8C4A-21CE17A0C2C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0CE-2B0F-428E-8F31-1B76BDBAB9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5895-1637-4C36-9344-1F9AD131AA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990B-1A28-4CAD-85BC-CE584BE7AC2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C35C-163C-47DA-91F5-ED728162F1D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7103-3A1C-486D-B00A-D87FF8DF09D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3A7B-E67E-4A01-8057-2CCB4210975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20840" y="3176640"/>
            <a:ext cx="8351640" cy="1859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28760" y="521460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 исследования учеников 5 класса: Тарабукина Татьяна и Петрова Елен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92332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25360" y="0"/>
            <a:ext cx="8553600" cy="1407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3643200" y="2428920"/>
            <a:ext cx="180036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195120" y="23760"/>
            <a:ext cx="8504280" cy="2622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3643200" y="3143160"/>
            <a:ext cx="23050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219240" y="-19080"/>
            <a:ext cx="8474040" cy="143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3071880" y="2928960"/>
            <a:ext cx="2581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95120" y="-201600"/>
            <a:ext cx="8809200" cy="2639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2"/>
          <a:stretch/>
        </p:blipFill>
        <p:spPr>
          <a:xfrm>
            <a:off x="3429000" y="3214800"/>
            <a:ext cx="1971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189000" y="36360"/>
            <a:ext cx="8669160" cy="2968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3357720" y="3143160"/>
            <a:ext cx="2286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2:23:45Z</dcterms:created>
  <dc:creator>Пользователь</dc:creator>
  <dc:description/>
  <dc:language>en-US</dc:language>
  <cp:lastModifiedBy>Пользователь</cp:lastModifiedBy>
  <dcterms:modified xsi:type="dcterms:W3CDTF">2010-05-23T12:38:22Z</dcterms:modified>
  <cp:revision>2</cp:revision>
  <dc:subject/>
  <dc:title>Пятиконечные и другие звезды. </dc:title>
</cp:coreProperties>
</file>